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A341-0F1E-4E09-A23A-1BD1F4E94C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e informazioni multimediali possono essere definite attraverso la composizione 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VIS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TEST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oggetti multimediali possono essere classificati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DINA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i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STATIC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 seconda che presentino o meno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un’evoluzione nel tempo intrinse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d esempio,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sti e le immagin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 tipo STATICO mentre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video e gli audi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NAMI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DOCUMEN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detto anche presentazione, include la composizione di una varietà di oggetti multimedial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opportunamente coordinati nello spazio e nel tempo di visualizzazi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 corso di questa presentazione verranno discuss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caratteristiche dei dati semistrutturati e multimedi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anno introdott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noz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nell’ambito delle basi di dati tempor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à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nalizzato il modello MTGM attraverso un esempio applic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d, infine, trarremo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pportune conclus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indicheremo 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ossibili sviluppi futur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odello MTGM proposto è un’estensione del modello TGM per il trattamento dell’informazione semistrutturata e temporale presente in letteratu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incipali caratteristiche del modello MTGM sono le seguen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APPRESENTAZIONE DI PRESENTAZIONI MULTIMEDIALI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ugli oggetti memorizzati nella base di dati MTGM ste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TEGR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i dati appartenenti alla base di dati con quelli inerenti le present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ia le modalità di rappresentazione degli oggetti e relazioni della base di dati e degli oggetti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lazioni multimediali sono le st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OCI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 tempo di validità anche agli oggetti ed alle rel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si basa su grafi etichettati in cui si distinguono due tipi di no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COMPLESS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gli oggetti appartenenti a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ATO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le proprietà ossia gli attributi associati agli oggetti comple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 particolare, 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arà rappresentato attraverso un nodo comples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archi del grafo si distinguono i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RELAZION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sentono di descrivere le relazioni che intercorrono tra gli oggetti memorizzati ne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MULTIMEDI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descrivono le relazioni di sincronizzazione che sussistono tra gli oggetti multimediali che costituiscono una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resent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n generale, tra gli oggetti multimediali che compongono una presentazione multimediale saranno defini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delle </a:t>
            </a: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relazioni di sincronizza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che dovranno essere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soddisfatte al momento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riprodu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presentazione stess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SPAZIALI permettono di definire le coordinate spaziali di visualizzazione di un oggetto e, ovviamente, non sono significativi per gli oggetti aud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TEMPORALI consentono di definire le coordinate temporali di visualizzazione degli oggetti multimediali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 seconda del tipo di condizione imposta dal vincolo si potranno avere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NT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L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ntitativi specificano delle relazioni tra gli oggetti multimediali fissandone delle distanze in tempo o spaz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Nel modello MTGM tali vincoli saranno rappresentati attraverso nodi atomici che descrivono, nel caso temporale, le coordinate di inizio e fine della riproduzione dell’ogg. Multimediale cui si riferiscono mentre, nel caso spaziale, le coordinate del punto in cui dovrà essere visualizzato l’ogget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litativi specificano relazioni senza fissarne distanze precise. In MTGM tali relazioni saranno rappresentate attraverso le etichette degli archi multimediali. Nel caso temporale descriveranno le relazioni temporali definite da ALLL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’ stata definita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metodologia di tradu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una base di dati MTGM in XML, il noto linguaggio di marcatura che permette di caratterizzare il contenuto informativo dei documenti semistruttur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esentazioni multimediali memorizzate nella base di dati potranno essere tradotte i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un nuov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inguaggio per la definizione di presentazioni multimediali basato sulla sintassi di XM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IL consente la descrizione di presentazioni multimediali complesse sia dal punto di vista della struttura che dei vincoli temporali, senza richiedere particolari abilità di scrittura del cod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tazion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definite attraverso il linguaggi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 possono essere riprodot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ttraverso molti software multimediali tra i  qua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OnePlayer, che è stato da noi utilizz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prima parte della visualizzazione della presentazione assumerà questa for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durata della visualizzazione dell’anamnesi potrà essere ulteriormente dettagliata attraverso la specifica dei valori desiderati per i nodi atomic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INIZIO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F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conda parte della visualizzaizone assumerà questa forma. Poiché i video di una coronarografia sono molto brevi, sarà possibile richiedere una ripetizione dell’esecuzione del video specificando il numero di ripetizioni richieste come valore del nodo atomic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ssociato all’oggetto complesso CORONAROGRAF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presentato ha permesso d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modellare l’informazione semistrutturata, temporale,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integrare le presentazioni multimediali con le informazioni temporali e semistruttu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estendere il tempo di validità anche all’informazione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sviluppi futuri del lavoro riguarderanno la definizione di un linguaggio  d’interrogazione che consenta il trattamento dell’informazione multimediale e temporale. In tal modo potranno essere definite presentazioni multimediali sulla base dei risultati di interrogazioni precedentemente formul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450-43D2-4568-BBB0-61CEF357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289-9467-48AC-8201-5E3201D4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41B-53B4-4B7A-AD27-A729B265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E76-EBA8-496C-85D2-BD1DC5E4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61A2-3253-4496-B3DA-06781186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1F39-BA40-4729-AD94-09EC51C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B2D3-FE3A-4046-825B-A648E16C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1120-4610-43D9-BA56-A1358A4F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89B0-0479-4BF5-A22F-E6478DCA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B394-9180-485B-A329-F7A33788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8F6C-9F69-4463-80E2-939B1825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02C-0285-486C-8509-5B32A7C3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4161-188F-4FDC-A538-80EC9FD4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FC8D-C321-4FAB-8D52-E9CF1BF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9230-508A-4631-8A42-38DB5A89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D50C-6073-4FEC-BAF3-73E1D5EB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C36E-C7AF-4812-A01E-2658000E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58D-E80D-463C-A29C-AFB0338F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51F-2273-40D6-9A92-1940BFF7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CFC-C5F3-40B5-97B3-F2BD45E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184-3747-4066-84E6-366ADED5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0D1-35AE-4923-A163-006D6CB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54A-9646-4352-94F9-2B11E354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09D-5232-4AEF-9B58-9D6751D7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A58A-66AE-41BD-9F0F-C2B3026BDC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1284-14AA-4E8A-9F4E-B59E6D3E1B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odeling multimedia and temporal aspects of semistructured clinical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3880" y="4190760"/>
            <a:ext cx="65534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.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mbi, B. Oliboni, R. Rossa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valid time of each simple node is related to the valid tim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all its ingoing edges.</a:t>
            </a:r>
            <a:r>
              <a:rPr b="0" lang="it-IT" sz="32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conTT2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6781680" cy="361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77960" y="6095880"/>
            <a:ext cx="295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k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ji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ke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jie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value of a property of a complex object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conVT4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086600" cy="3423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48200" y="594360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relation between two complex objects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conVT5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258320" cy="3006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71880" y="601992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s_descendan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tw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be established before that both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s are valid in the considered domain, but i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 survive the end of one (or both) of the connected no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conVT1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7010640" cy="2895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20760" y="61722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 = max(t_hs,t_ks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6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organizes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an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Conferen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cannot be established before that t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 is valid in the considered domain, and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survive the end the of th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4" name="conVT1c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78320" y="61563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g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l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eneral Optional Constraint for Valid Time (7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lations between complex nodes can be valid exactly only in the intersec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time interva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quenced semantic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).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conVT1b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068480" y="5867280"/>
            <a:ext cx="35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hs,t_k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he,t_k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99768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media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ltimedia data are the composition of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Vis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Audio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Text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s the composition of a set of multimedia objects which have to satisfy spatio-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ynchronization Relationsh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ynchronization relationships describe the constraints among the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must satisfy these constraints at presentatio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patio - 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Qualitative - Quantitative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Based on Allen’s temporal rel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Before B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ee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Overlap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774120" y="2286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2004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743200"/>
            <a:ext cx="121932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274320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4880" y="2286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0" y="32004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962520"/>
            <a:ext cx="1219320" cy="30456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962520"/>
            <a:ext cx="18288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4880" y="3505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6920" y="5105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4197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4840" y="44956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181480"/>
            <a:ext cx="152388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63868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4840" y="6172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6483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45520" y="35053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tructured and un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mi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Temporal Graphical Model for Semistructured Data (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ltimedi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ultimedia Temporal Graphical Model (M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n exam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clusions and Future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During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Star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Finishe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Equal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15238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1981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24382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8520" y="2362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2743200"/>
            <a:ext cx="152388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8320" y="320040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36576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8520" y="3505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3809880"/>
            <a:ext cx="152388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4267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46483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8520" y="45720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1814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5715000"/>
            <a:ext cx="15242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8520" y="60199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ltimedia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T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emporal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raphic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l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based on multimedia objects stored in a semistructured, temporal and multimedia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multimedia temporal information and presentati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constraints related to the synchronization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imeline of a multimedia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62120" y="2361240"/>
            <a:ext cx="740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1523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 the objects composing a multimedia presentation are aligned on a temporal ax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TIMELINE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96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media object can be inserted several times in the same present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ppears in the first and in the last part of the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ifferent spatial 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temporal coordina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can be requ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presentation identifi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 order to recognize the different instances of the same media object in a given presentation, we introduce the concept of </a:t>
            </a: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first instance of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related to the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the second to the mpi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ultimedia constraints re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 the first part of the presentation the objects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must be played simultaneous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50532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Tahoma"/>
              </a:rPr>
              <a:t>Multimedia edg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267080"/>
            <a:ext cx="76964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he label of a multimedia edge report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f the considered media objec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description of their temporal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constrai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part the objects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must be playe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imultaneously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0" name="MM_EDGE1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39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part of the presentation, the object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is played on the end of the visualization of 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3" name="MM_EDGE2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2485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594360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MM_EDGE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77040" cy="4952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876920" y="56386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15200" y="5486400"/>
            <a:ext cx="33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Vide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hown simultaneous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presenting information related to the visualization of a multimedia 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GB" sz="3200" spc="-1" strike="noStrike">
                <a:solidFill>
                  <a:srgbClr val="0066ff"/>
                </a:solidFill>
                <a:latin typeface="Tahoma"/>
              </a:rPr>
              <a:t>Setting 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tting nodes can be related only to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atomic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tream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nodes composing a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labe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etween atomic (stream) nodes and the setting nodes is a sequence of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81952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tructured and 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n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Traditionally, data stored in electronic form was classified int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rigid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datab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Un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do not present an a priori-known internal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textual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played into different pl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escription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re played together for 1 minu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video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shown 4 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6" name="SETTING1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6629400" cy="2676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14400" y="16002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instance of Name, 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1,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instance of Name,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20,2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9" name="SETTING2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6105600" cy="35337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1440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shown simultaneously for 1 minu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xa12.mpg) is shown 4 ti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3" name="SETTING3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5342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lex node </a:t>
            </a:r>
            <a:r>
              <a:rPr b="1" lang="en-GB" sz="2800" spc="-1" strike="noStrike">
                <a:solidFill>
                  <a:srgbClr val="0066ff"/>
                </a:solidFill>
                <a:latin typeface="Tahoma"/>
              </a:rPr>
              <a:t>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represents the starting point of the pres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has an atomic nod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Pre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presenting its unique name w.r.t. MTGM datab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is connected by means of an edge to the first media object of the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of the Presentation node represent the time interval in which the presentation has been visualiz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he complex node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Presentation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82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TGM databa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MTGMcompleto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0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XML (eXtensible Markup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XML [1998] is a general markup language to represent any documental information, i.e. any kind of semistructured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format to make information self-describing: tags describe the data cont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can be associated to a DTD, which defines the syntactic structure of the document (schem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ocuments can be easily seen as trees or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graph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2362320"/>
            <a:ext cx="221004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2437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038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72120" y="32760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962520"/>
            <a:ext cx="1523880" cy="53316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 id=“obj2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4647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3568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 idref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572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20574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53280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213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3, t4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91440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0000" y="12186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3611880"/>
            <a:ext cx="381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   id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3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4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emistructured Data: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are semistructured when,  although some structure is present, it is not so strict, regular, or complete as required by traditional database management syste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egrated from multiple, heterogeneous data 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on the World Wide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962520"/>
            <a:ext cx="76212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914400"/>
            <a:ext cx="231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209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2666880"/>
            <a:ext cx="45720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0628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133720"/>
            <a:ext cx="1523880" cy="5331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Name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Na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586368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3962520"/>
            <a:ext cx="76176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674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2200" y="2666880"/>
            <a:ext cx="53352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492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3984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9360" y="2133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1219320"/>
            <a:ext cx="2133720" cy="533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36576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37335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1294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6120" y="213372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3, t4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43520" y="41911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53400" y="2576520"/>
            <a:ext cx="1774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1752480"/>
            <a:ext cx="53316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705720" y="1752480"/>
            <a:ext cx="45720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152388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6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533520"/>
            <a:ext cx="2133720" cy="609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2666880"/>
            <a:ext cx="2438640" cy="609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5840" y="6094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Patient, [t1, t2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34680" y="28195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Symptom, [t3, t4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24680" y="1143000"/>
            <a:ext cx="0" cy="1523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22840" y="247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46720" y="205740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T_Equals, 2, [t5, t6]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43400"/>
            <a:ext cx="121896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43430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Descrip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5800" y="36576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2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67560" y="48769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Chest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discomfor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327672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….. 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4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3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 P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en-GB" sz="14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T_Synch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T_Equal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T_Synch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1430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12189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43320" y="16765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028840" y="762120"/>
            <a:ext cx="106668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18400" y="4572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MIL (Synchronized Multimedia Integration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MIL is a markup language (like HTML) and was created specifically to solve the problem of coordinating the display of a variety of media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ition media elements whenever you want on the sc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ynchronize those ele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isplay media following user-preferences, language, bit-rate, etc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6997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MIL 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oot-layou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heigh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5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width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70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background-colo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#ffffc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……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scription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……….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_symptom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video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xa12.mpg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pea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1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1" name="SLIDE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7816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3" name="slide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Future Work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Query Languag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Data structur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haracteristics of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rregular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complete information, different types for representing the same kind of inform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mplicit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t can be extracted from the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P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artial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me data may be unstructured at a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ry large schema, rapidly evolv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Graph-based Data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 Temporal Graphical Model for 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semistructured information by considering also their time dimen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ormal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Formally, a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TGM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graph is a rooted labeled graph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l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,E,r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with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 is a (finite) set of nodes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 is a set of labeled edg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 is the unique root of the grap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nod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name_i, Ntype_i, Ncontent_i, Ntime_i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edg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(n_h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_k), label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, with label_j =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Ename_j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time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anaging Valid Time with TG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MTGM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time interval of an edge between a complex node and a simple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st be related to the time interval of the complex no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conVT2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257960" cy="3017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99840" y="579132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_js &g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s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&l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16:47Z</dcterms:created>
  <dc:creator>Barbara Oliboni</dc:creator>
  <dc:description/>
  <dc:language>en-US</dc:language>
  <cp:lastModifiedBy>Barbara Oliboni</cp:lastModifiedBy>
  <dcterms:modified xsi:type="dcterms:W3CDTF">2003-06-12T15:03:39Z</dcterms:modified>
  <cp:revision>35</cp:revision>
  <dc:subject/>
  <dc:title>Presentazione di PowerPoint</dc:title>
</cp:coreProperties>
</file>