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BBB-22E9-4300-9541-2BC6E400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870-04C5-46E1-99CA-B889B600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AC2-D630-4C03-A774-CD95A5E4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857-7307-45F2-A449-23B33AF4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788-F33E-4E27-81FB-DD49D7EB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08C-7A9C-40A1-BD18-7B64DF8B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283-D780-4BC0-94DE-96E3EFB5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3F2-255C-4138-9845-928B6C0C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979-5AA0-42FA-AC73-3C4CD6A2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439-7DD2-4651-B1B8-F6EA02E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010-097A-4EC4-B28B-1D84A5E5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87D-0CD9-4730-BB56-1808E983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6960-C5EA-46B7-8583-97EC9F527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2"/>
                <a:ea typeface="MS Reference 2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7:38Z</dcterms:modified>
  <cp:revision>11</cp:revision>
  <dc:subject/>
  <dc:title>  </dc:title>
</cp:coreProperties>
</file>