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1B9-4466-496B-927E-ED7F31A8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902-701C-48EE-B108-388312C1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8E0-B6F5-4EAC-A246-8AF4E177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F0F-6D5C-4843-B60E-435C7030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037-5CF8-4AAF-97C8-E1004B4B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28D-CADF-40B8-B87D-5BE0C79B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805-3982-4EE9-A2BE-0E62BF85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770-94CA-48F1-9862-FA6E0302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C06-B2E9-4EB1-B7AA-E5EF20C5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E8A-2EAD-4408-B770-D0349043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3BE-1610-4741-A9B2-FB8455C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C30-8C73-42B7-B5A1-8BBA720B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ED18-AEDD-4208-8D30-419B0A92B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5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74320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743200"/>
            <a:ext cx="7391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562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4800240"/>
            <a:ext cx="152640" cy="762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1066680"/>
            <a:ext cx="838440" cy="10670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14440" y="106668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4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57040" y="99072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19810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3657600"/>
            <a:ext cx="373392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5715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helpful inputs (ensure progress towards targe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safe inputs (keep plant out of uncontrollable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0880" y="21337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fety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safety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une from the state machine whose states are the consistent subsets of Safety-controllable and whose outputs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without success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752480"/>
            <a:ext cx="8763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ess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the state machine whose states are the consistent subsets of Safety-controllable without target states (including the empty set Ø), and whose out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and there is an acyclic, output-closed subgraph from possibleInitialStates to Ø, then prune away all states not in the subgraph; this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90720" y="2514600"/>
            <a:ext cx="7391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usual, if the plan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we need consider only consistent sets of size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other words, the controller always knows the state of the pla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0968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yclic, output-closed sub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48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u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24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386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60706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438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4290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84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50036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91320" y="52578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0199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267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71600" y="48513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0547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0" y="551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24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638680" y="5410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9625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53280" y="4800600"/>
            <a:ext cx="355680" cy="558720"/>
          </a:xfrm>
          <a:custGeom>
            <a:avLst/>
            <a:gdLst/>
            <a:ahLst/>
            <a:rect l="l" t="t" r="r" b="b"/>
            <a:pathLst>
              <a:path w="224" h="352">
                <a:moveTo>
                  <a:pt x="0" y="224"/>
                </a:moveTo>
                <a:cubicBezTo>
                  <a:pt x="80" y="288"/>
                  <a:pt x="160" y="352"/>
                  <a:pt x="192" y="320"/>
                </a:cubicBezTo>
                <a:cubicBezTo>
                  <a:pt x="224" y="288"/>
                  <a:pt x="224" y="64"/>
                  <a:pt x="192" y="32"/>
                </a:cubicBezTo>
                <a:cubicBezTo>
                  <a:pt x="160" y="0"/>
                  <a:pt x="80" y="64"/>
                  <a:pt x="0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5880" y="4876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828800" y="685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a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42670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905120" y="2590920"/>
            <a:ext cx="121896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133720" y="2742840"/>
            <a:ext cx="312408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962160" y="2742840"/>
            <a:ext cx="297180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6171840" y="24382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2057040" y="4114440"/>
            <a:ext cx="1219320" cy="1066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791320" y="4190760"/>
            <a:ext cx="1218960" cy="99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2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33720" y="39625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lan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3124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6019920" y="1143000"/>
            <a:ext cx="3045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8195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267080" y="106668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38080" y="3200400"/>
            <a:ext cx="152424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2285640" y="1066680"/>
            <a:ext cx="3429000" cy="243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20040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1143000"/>
            <a:ext cx="53316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4800600"/>
            <a:ext cx="396252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5715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ubsets are consis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84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371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19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867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172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vs.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round consists of two moves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Controller chooses plant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Plant chooses 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 plant 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troller has a strategy to meet the objective (avoid error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plant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has a strategy to violate the objective (reach an error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flipV="1">
            <a:off x="4800600" y="3886200"/>
            <a:ext cx="99072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17524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 objective = SAFE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away from the states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5812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ant objective = PROGR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to a state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ual control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attempts to lead the plant into a specified set of states (the “targe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Control  vs.  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74320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les of Plant and Controller are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progress-controllable states are not the safety-uncontrollable, because the game is not symmetric (the controller always moves fir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, the solutions are very simi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=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33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838080"/>
            <a:ext cx="9903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6019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419720" y="4343040"/>
            <a:ext cx="1218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838080"/>
            <a:ext cx="10666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676160" y="3505320"/>
            <a:ext cx="6858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3:17Z</dcterms:modified>
  <cp:revision>19</cp:revision>
  <dc:subject/>
  <dc:title>  </dc:title>
</cp:coreProperties>
</file>