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46AB-1650-4CBF-B81B-C306A311070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[RESPIRA]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e informazioni multimediali possono essere definite attraverso la composizione d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VISU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TESTU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Gli oggetti multimediali possono essere classificati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DINAMIC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e in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STATIC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 seconda che presentino o meno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un’evoluzione nel tempo intrinseca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d esempio, i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testi e le immagin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sono oggetti multimediali di tipo STATICO mentre i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video e gli audio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sono oggetti multimediali DINAMI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DOCUMENTO MULTIMEDIAL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detto anche presentazione, include la composizione di una varietà di oggetti multimediali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opportunamente coordinati nello spazio e nel tempo di visualizzazio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[RESPIR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el corso di questa presentazione verranno discusse 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incipali caratteristiche dei dati semistrutturati e multimedial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rranno introdotte 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incipali nozion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nell’ambito delle basi di dati tempor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rrà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nalizzato il modello MTGM attraverso un esempio applic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d, infine, trarremo 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opportune conclusion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e indicheremo i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ossibili sviluppi futur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modello MTGM proposto è un’estensione del modello TGM per il trattamento dell’informazione semistrutturata e temporale presente in letteratu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principali caratteristiche del modello MTGM sono le seguent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APPRESENTAZIONE DI PRESENTAZIONI MULTIMEDIALI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sugli oggetti memorizzati nella base di dati MTGM ste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LI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NTEGRAZION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ei dati appartenenti alla base di dati con quelli inerenti le presentazioni multimed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ia le modalità di rappresentazione degli oggetti e relazioni della base di dati e degli oggetti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lazioni multimediali sono le ste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LI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SSOCIAZION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el tempo di validità anche agli oggetti ed alle relazioni multimed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l modello MTGM si basa su grafi etichettati in cui si distinguono due tipi di nod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NODI COMPLESS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appresentano gli oggetti appartenenti alla base di d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NODI ATOMIC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appresentano le proprietà ossia gli attributi associati agli oggetti comples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n particolare, un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O MULTIMEDIAL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sarà rappresentato attraverso un nodo compless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Gli archi del grafo si distinguono i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ARCHI RELAZIONALI: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consentono di descrivere le relazioni che intercorrono tra gli oggetti memorizzati nella base di d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ARCHI MULTIMEDIALI: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descrivono le relazioni di sincronizzazione che sussistono tra gli oggetti multimediali che costituiscono una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resentaz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n generale, tra gli oggetti multimediali che compongono una presentazione multimediale saranno defini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delle </a:t>
            </a:r>
            <a:r>
              <a:rPr b="1" lang="it-IT" sz="900" spc="-1" strike="noStrike">
                <a:solidFill>
                  <a:srgbClr val="000000"/>
                </a:solidFill>
                <a:latin typeface="Times New Roman"/>
              </a:rPr>
              <a:t>relazioni di sincronizzazione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che dovranno essere </a:t>
            </a:r>
            <a:r>
              <a:rPr b="0" lang="it-IT" sz="900" spc="-1" strike="noStrike" u="sng">
                <a:solidFill>
                  <a:srgbClr val="000000"/>
                </a:solidFill>
                <a:uFillTx/>
                <a:latin typeface="Times New Roman"/>
              </a:rPr>
              <a:t>soddisfatte al momento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della </a:t>
            </a:r>
            <a:r>
              <a:rPr b="0" lang="it-IT" sz="900" spc="-1" strike="noStrike" u="sng">
                <a:solidFill>
                  <a:srgbClr val="000000"/>
                </a:solidFill>
                <a:uFillTx/>
                <a:latin typeface="Times New Roman"/>
              </a:rPr>
              <a:t>riproduzione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della presentazione stess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SPAZIALI permettono di definire le coordinate spaziali di visualizzazione di un oggetto e, ovviamente, non sono significativi per gli oggetti audi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TEMPORALI consentono di definire le coordinate temporali di visualizzazione degli oggetti multimediali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A seconda del tipo di condizione imposta dal vincolo si potranno avere 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VINCOLI QUANTITATIV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VINCOLI QUALITATIV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quantitativi specificano delle relazioni tra gli oggetti multimediali fissandone delle distanze in tempo o spazi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Nel modello MTGM tali vincoli saranno rappresentati attraverso nodi atomici che descrivono, nel caso temporale, le coordinate di inizio e fine della riproduzione dell’ogg. Multimediale cui si riferiscono mentre, nel caso spaziale, le coordinate del punto in cui dovrà essere visualizzato l’ogget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qualitativi specificano relazioni senza fissarne distanze precise. In MTGM tali relazioni saranno rappresentate attraverso le etichette degli archi multimediali. Nel caso temporale descriveranno le relazioni temporali definite da ALLLE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’ stata definita un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metodologia di traduzion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i una base di dati MTGM in XML, il noto linguaggio di marcatura che permette di caratterizzare il contenuto informativo dei documenti semistruttur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presentazioni multimediali memorizzate nella base di dati potranno essere tradotte in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MIL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, un nuov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linguaggio per la definizione di presentazioni multimediali basato sulla sintassi di XM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MIL consente la descrizione di presentazioni multimediali complesse sia dal punto di vista della struttura che dei vincoli temporali, senza richiedere particolari abilità di scrittura del cod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esentazion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definite attraverso il linguaggi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MIL possono essere riprodott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attraverso molti software multimediali tra i  qual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alOnePlayer, che è stato da noi utilizza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a prima parte della visualizzazione della presentazione assumerà questa form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a durata della visualizzazione dell’anamnesi potrà essere ulteriormente dettagliata attraverso la specifica dei valori desiderati per i nodi atomici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COORD_INIZIO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COORD_FI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seconda parte della visualizzaizone assumerà questa forma. Poiché i video di una coronarografia sono molto brevi, sarà possibile richiedere una ripetizione dell’esecuzione del video specificando il numero di ripetizioni richieste come valore del nodo atomic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associato all’oggetto complesso CORONAROGRAF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l modello MTGM presentato ha permesso d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- modellare l’informazione semistrutturata, temporale, multimedi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- integrare le presentazioni multimediali con le informazioni temporali e semistruttu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- estendere il tempo di validità anche all’informazione multimedi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Gli sviluppi futuri del lavoro riguarderanno la definizione di un linguaggio  d’interrogazione che consenta il trattamento dell’informazione multimediale e temporale. In tal modo potranno essere definite presentazioni multimediali sulla base dei risultati di interrogazioni precedentemente formula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034-56ED-483D-836E-A5F87503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FF92-87D5-495D-8321-39CD2D91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78E-F3C7-4A08-B50F-30D0FC1D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E2D-3373-4608-8057-576CE962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6F58-A7FA-4BF8-96C3-01FD6C68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AAAB-2CD9-4CE3-9AE6-799108B3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1CE1-F1D7-45BC-A877-3C296F47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F69A-72A5-45DC-A0AB-45749481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E6FF-2347-4EE6-A53A-054809AE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FAA5-9CFE-4E37-84AD-5F1F512B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A51F-B0D5-48DA-9444-7013572A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985-AB70-4380-8CDC-60B8A9F7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4AA8-A166-4197-A4BF-0127FD55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12BD-4FC9-4F4F-98BA-8A0A2531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10BF-2689-4FC8-9EFA-65C62C4C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7F62-41E3-4A56-AC81-190F40B6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DEB5-FB39-426B-9EE7-F7946297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DB48-D70C-45A8-934E-6C050DCE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8F65-884D-4218-B25C-BA868F0C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AA8-0CEF-4F90-831E-C7F6AAFC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55C-FC32-4146-939B-EDA65D97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3D0-309C-4FBE-8B0B-D224E072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B38A-C056-4B87-B409-449FDBE3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7E73-3D74-4E08-8807-8D7074ED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7260-5543-4E80-BC2E-C6C9FD22002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FDF1-09E1-4478-B89F-797FA32889C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odeling multimedia and temporal aspects of semistructured clinical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523880" y="4190760"/>
            <a:ext cx="65534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C.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Combi, B. Oliboni, R. Rossa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valid time of each simple node is related to the valid tim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f all its ingoing edges.</a:t>
            </a:r>
            <a:r>
              <a:rPr b="0" lang="it-IT" sz="32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8" name="conTT2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6781680" cy="361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677960" y="6095880"/>
            <a:ext cx="2954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ks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in(t_jis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ke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ax(t_jie)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value of a property of a complex object is unique at each ti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2" name="conVT4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7086600" cy="34239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348200" y="5943600"/>
            <a:ext cx="37281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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(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i=0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,…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n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)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[t_jis,t_jie]= </a:t>
            </a:r>
            <a:r>
              <a:rPr b="1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 relation between two complex objects is unique at each ti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6" name="conVT5" descr=""/>
          <p:cNvPicPr/>
          <p:nvPr/>
        </p:nvPicPr>
        <p:blipFill>
          <a:blip r:embed="rId2"/>
          <a:stretch/>
        </p:blipFill>
        <p:spPr>
          <a:xfrm>
            <a:off x="1066680" y="2514600"/>
            <a:ext cx="7258320" cy="3006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271880" y="6019920"/>
            <a:ext cx="37281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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(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i=0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,…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n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)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[t_jis,t_jie]= </a:t>
            </a:r>
            <a:r>
              <a:rPr b="1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Optional Constraint for Valid Time (5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he relation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is_descendan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between two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annot be established before that both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odes are valid in the considered domain, but it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an survive the end of one (or both) of the connected no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0" name="conVT1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7010640" cy="2895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220760" y="617220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s = max(t_hs,t_ks)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Optional Constraint for Valid Time (6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he relation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organizes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between a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 and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Conferenc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 cannot be established before that th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ode is valid in the considered domain, and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annot survive the end the of the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4" name="conVT1c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7247160" cy="2994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678320" y="615636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s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&gt;=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t_h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e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&lt;=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t_h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General Optional Constraint for Valid Time (7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h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relations between complex nodes can be valid exactly only in the intersectio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f the time interval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f the nod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equenced semantic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).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8" name="conVT1b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7247160" cy="2994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068480" y="5867280"/>
            <a:ext cx="353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s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ax(t_hs,t_ks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e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in(t_he,t_ke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997680" cy="77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media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ultimedia data are the composition of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Visual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Audio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Textual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multimedia presentation</a:t>
            </a:r>
            <a:r>
              <a:rPr b="0" lang="en-GB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s the composition of a set of multimedia objects which have to satisfy spatio-temporal constra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ynchronization Relationshi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ynchronization relationships describe the constraints among the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objects must satisfy these constraints at presentation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Spatio - Temporal constra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Qualitative - Quantitative constra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Qualitative temporal constraint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Based on Allen’s temporal rela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Before B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Meet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Overlap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774120" y="2286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320040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2743200"/>
            <a:ext cx="121932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5880" y="2743200"/>
            <a:ext cx="1828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4880" y="2286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0" y="32004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3962520"/>
            <a:ext cx="1219320" cy="30456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1320" y="3962520"/>
            <a:ext cx="182880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4880" y="35053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16920" y="51055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441972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04840" y="44956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5181480"/>
            <a:ext cx="152388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638680"/>
            <a:ext cx="1828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609588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04840" y="61722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64832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45520" y="35053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tructured and unstructured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emistructured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 Temporal Graphical Model for Semistructured Data (TGM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Multimedia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Multimedia Temporal Graphical Model (MTGM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n examp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onclusions and Future Wor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Qualitative temporal constraints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During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Start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Finishe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Equal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5410080" y="1523880"/>
            <a:ext cx="152424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1981080"/>
            <a:ext cx="34290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243828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8520" y="236232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48320" y="2743200"/>
            <a:ext cx="152388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8320" y="3200400"/>
            <a:ext cx="34290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67080" y="365760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28520" y="350532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77120" y="3809880"/>
            <a:ext cx="152388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4267080"/>
            <a:ext cx="34290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67080" y="464832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28520" y="45720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181480"/>
            <a:ext cx="152424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0080" y="5715000"/>
            <a:ext cx="152424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609588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8520" y="601992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M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ultimedia </a:t>
            </a: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T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emporal</a:t>
            </a:r>
            <a:br>
              <a:rPr sz="44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G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raphic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l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M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Representing in a uniform way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multimedia presentation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based on multimedia objects stored in a semistructured, temporal and multimedia databa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sing a graph-based approach to represen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mistructured temporal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nstraints related to the temporal dimens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multimedia temporal information and presentation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constraints related to the synchronization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Timeline of a multimedia present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762120" y="2361240"/>
            <a:ext cx="740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rot="10800000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15238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 the objects composing a multimedia presentation are aligned on a temporal ax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7" name="TIMELINE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2961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 media object can be inserted several times in the same presentati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object </a:t>
            </a:r>
            <a:r>
              <a:rPr b="0" i="1" lang="en-GB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ppears in the first and in the last part of the multimedia pres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different spatial and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temporal coordina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can be requir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presentation identifi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n order to recognize the different instances of the same media object in a given presentation, we introduce the concept of </a:t>
            </a: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mp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14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first instance of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is related to the 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mpi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with valu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1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nd the second to the mpi with valu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ultimedia constraints represen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n the first part of the presentation the objects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must be played simultaneousl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1752480" y="3505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350532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ff"/>
                </a:solidFill>
                <a:latin typeface="Tahoma"/>
              </a:rPr>
              <a:t>Multimedia edg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4267080"/>
            <a:ext cx="76964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he label of a multimedia edge report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mpi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of the considered media object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description of their temporal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constrai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edge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first part the objects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must be playe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simultaneously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0" name="MM_EDGE1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391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edge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second part of the presentation, the object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StreamFil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is played on the end of the visualization of th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3" name="MM_EDGE2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62485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edge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4191120" y="5943600"/>
            <a:ext cx="685800" cy="485640"/>
          </a:xfrm>
          <a:prstGeom prst="rightArrow">
            <a:avLst>
              <a:gd name="adj1" fmla="val 50000"/>
              <a:gd name="adj2" fmla="val 35304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7" name="MM_EDGE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77040" cy="49528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876920" y="5638680"/>
            <a:ext cx="685800" cy="486000"/>
          </a:xfrm>
          <a:prstGeom prst="rightArrow">
            <a:avLst>
              <a:gd name="adj1" fmla="val 50000"/>
              <a:gd name="adj2" fmla="val 35278"/>
            </a:avLst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15200" y="5486400"/>
            <a:ext cx="338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Video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r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hown simultaneousl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Representing information related to the visualization of a multimedia objec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en-GB" sz="3200" spc="-1" strike="noStrike">
                <a:solidFill>
                  <a:srgbClr val="0066ff"/>
                </a:solidFill>
                <a:latin typeface="Tahoma"/>
              </a:rPr>
              <a:t>Setting No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tting nodes can be related only to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atomic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stream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nodes composing a multimedia pres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label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between atomic (stream) nodes and the setting nodes is a sequence of </a:t>
            </a:r>
            <a:r>
              <a:rPr b="0" i="1" lang="en-GB" sz="2400" spc="-1" strike="noStrike">
                <a:solidFill>
                  <a:srgbClr val="0066ff"/>
                </a:solidFill>
                <a:latin typeface="Tahoma"/>
              </a:rPr>
              <a:t>mpi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2819520"/>
            <a:ext cx="762120" cy="485640"/>
          </a:xfrm>
          <a:prstGeom prst="rightArrow">
            <a:avLst>
              <a:gd name="adj1" fmla="val 50000"/>
              <a:gd name="adj2" fmla="val 39233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tructured and </a:t>
            </a:r>
            <a:br>
              <a:rPr sz="44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un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Traditionally, data stored in electronic form was classified int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85840" indent="-2858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Structured data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: rigid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6212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xample: databa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5840" indent="-2858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Unstructured data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: do not present an a priori-known internal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6212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xample: textual fi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6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object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is played into different pla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objects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Name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nd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Description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re played together for 1 minu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video object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StreamFil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is shown 4 tim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 representation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6" name="SETTING1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6629400" cy="2676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914400" y="1600200"/>
            <a:ext cx="784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first instance of Name,  the spatial coordinates ar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(1,1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second instance of Name, the spatial coordinates ar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(20,20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 representation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9" name="SETTING2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6105600" cy="35337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914400" y="1523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re shown simultaneously for 1 minu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 representation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StreamFil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(xa12.mpg) is shown 4 ti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3" name="SETTING3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55342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complex node </a:t>
            </a:r>
            <a:r>
              <a:rPr b="1" lang="en-GB" sz="2800" spc="-1" strike="noStrike">
                <a:solidFill>
                  <a:srgbClr val="0066ff"/>
                </a:solidFill>
                <a:latin typeface="Tahoma"/>
              </a:rPr>
              <a:t>Presentation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represents the starting point of the present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t has an atomic nod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NamePres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presenting its unique name w.r.t. MTGM databa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t is connected by means of an edge to the first media object of the pres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valid ti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of the Presentation node represent the time interval in which the presentation has been visualiz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The complex node Present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7" name="Presentation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82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TGM databa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9" name="MTGMcompleto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086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XML (eXtensible Markup Language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XML [1998] is a general markup language to represent any documental information, i.e. any kind of semistructured inform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 format to make information self-describing: tags describe the data cont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t can be associated to a DTD, which defines the syntactic structure of the document (schem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XML documents can be easily seen as trees or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graph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5867280" y="2362320"/>
            <a:ext cx="2210040" cy="457200"/>
          </a:xfrm>
          <a:prstGeom prst="rect">
            <a:avLst/>
          </a:prstGeom>
          <a:noFill/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67280" y="2437560"/>
            <a:ext cx="23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1, t2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15000" y="4038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10280" y="2819520"/>
            <a:ext cx="0" cy="114300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72120" y="327600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HasPropert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5, t6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962520"/>
            <a:ext cx="1523880" cy="53316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t1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end&gt;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 t2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Name id=“obj2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t5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end&gt; 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t6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Name</a:t>
            </a:r>
            <a:r>
              <a:rPr b="0" lang="it-IT" sz="1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5715000" y="4647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3568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1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 t2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Patient_Symptom idref=“obj2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5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6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Patient_Symptom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457200"/>
            <a:ext cx="2362320" cy="457200"/>
          </a:xfrm>
          <a:prstGeom prst="rect">
            <a:avLst/>
          </a:prstGeom>
          <a:noFill/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43600" y="2057400"/>
            <a:ext cx="2362320" cy="457200"/>
          </a:xfrm>
          <a:prstGeom prst="rect">
            <a:avLst/>
          </a:prstGeom>
          <a:noFill/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53280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1, t2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2133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Symptom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3, t4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20120" y="914400"/>
            <a:ext cx="0" cy="114300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0000" y="121860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Patient_Symptom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5, t6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3611880"/>
            <a:ext cx="381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Symptom   id=“obj2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 t3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4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Symptom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mi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Semistructured Data: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ta are semistructured when,  although some structure is present, it is not so strict, regular, or complete as required by traditional database management syste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ata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tegrated from multiple, heterogeneous data sour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ta on the World Wide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XML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962520"/>
            <a:ext cx="762120" cy="76176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19920" y="914400"/>
            <a:ext cx="231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67280" y="22093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15200" y="2666880"/>
            <a:ext cx="457200" cy="129564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406280" y="30474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mpi_valu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48520" y="2133720"/>
            <a:ext cx="1523880" cy="53316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913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C_x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Name id=“obj1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x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pi_valu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x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pi_valu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/Na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5863680" y="4800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91520" y="3962520"/>
            <a:ext cx="761760" cy="76176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467480" y="4114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C_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172200" y="2666880"/>
            <a:ext cx="533520" cy="129564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94920" y="30474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mpi_valu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39840" y="4800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9360" y="213372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5486400" y="1219320"/>
            <a:ext cx="2133720" cy="5331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43600" y="3657600"/>
            <a:ext cx="1219320" cy="4572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4120" y="373356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6400" y="1294560"/>
            <a:ext cx="23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1, t2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66120" y="2133720"/>
            <a:ext cx="19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1, [t3, t4]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43520" y="41911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53400" y="2576520"/>
            <a:ext cx="1774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HasPropert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5, t6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91320" y="1752480"/>
            <a:ext cx="533160" cy="1905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705720" y="1752480"/>
            <a:ext cx="457200" cy="1905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152388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1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 t2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Name id= “obj2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6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Name</a:t>
            </a:r>
            <a:r>
              <a:rPr b="0" lang="it-IT" sz="16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idref=“obj2”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NPres&gt; P1 &lt;/NPres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mpi&gt; 1 &lt;/mpi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5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6095880" y="533520"/>
            <a:ext cx="2133720" cy="6094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5880" y="2666880"/>
            <a:ext cx="2438640" cy="6098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45840" y="6094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&lt;Patient, [t1, t2]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34680" y="281952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&lt;Symptom, [t3, t4]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924680" y="1143000"/>
            <a:ext cx="0" cy="1523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22840" y="247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46720" y="2057400"/>
            <a:ext cx="32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it-IT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1, T_Equals, 2, [t5, t6]</a:t>
            </a:r>
            <a:r>
              <a:rPr b="0" lang="it-IT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0120" y="4343400"/>
            <a:ext cx="1218960" cy="4572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086600" y="434304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Descript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75800" y="3657600"/>
            <a:ext cx="19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2, [t5, t6]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67560" y="48769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Chest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discomfor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3276720"/>
            <a:ext cx="0" cy="10666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 ….. 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Name id= “obj2”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4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Name</a:t>
            </a:r>
            <a:r>
              <a:rPr b="0" lang="it-IT" sz="14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idref=“obj2”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NPres&gt; P1 &lt;/NPres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mpi&gt; 1 &lt;/mpi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idref=“obj3”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NPres&gt;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 P1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NPres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s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 </a:t>
            </a:r>
            <a:r>
              <a:rPr b="0" lang="en-GB" sz="1400" spc="-1" strike="noStrike">
                <a:solidFill>
                  <a:srgbClr val="ff6600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s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 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T_Synch&gt; 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T_Equals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T_Synch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4343400" y="1143000"/>
            <a:ext cx="1219320" cy="4572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121896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243320" y="16765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5028840" y="762120"/>
            <a:ext cx="106668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18400" y="457200"/>
            <a:ext cx="19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1, [t5, t6]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MIL (Synchronized Multimedia Integration Language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MIL is a markup language (like HTML) and was created specifically to solve the problem of coordinating the display of a variety of media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osition media elements whenever you want on the scre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ynchronize those eleme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isplay media following user-preferences, language, bit-rate, etc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6997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MIL c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mil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hea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layou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oot-layou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heigh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350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width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700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background-colo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#ffffc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egion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……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egion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……… 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egion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video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……… 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layou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hea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body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eq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name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……..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escription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……….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_symptom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……..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name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……..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video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xa12.mpg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video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pea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eq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body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mil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Visualization of the presentation (1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21" name="SLIDE1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781680" cy="43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Visualization of the presentation (2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23" name="slide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315200" cy="47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997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Future Work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Query Language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mporal query langu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Multimedia query langu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Data structure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mporal semistructured databa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Multimedia Temporal semistructured databa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haracteristics of</a:t>
            </a:r>
            <a:br>
              <a:rPr sz="44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mi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I</a:t>
            </a:r>
            <a:r>
              <a:rPr b="0" lang="it-IT" sz="2800" spc="-1" strike="noStrike">
                <a:solidFill>
                  <a:srgbClr val="0066ff"/>
                </a:solidFill>
                <a:latin typeface="Tahoma"/>
              </a:rPr>
              <a:t>rregular structur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complete information, different types for representing the same kind of inform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I</a:t>
            </a:r>
            <a:r>
              <a:rPr b="0" lang="it-IT" sz="2800" spc="-1" strike="noStrike">
                <a:solidFill>
                  <a:srgbClr val="0066ff"/>
                </a:solidFill>
                <a:latin typeface="Tahoma"/>
              </a:rPr>
              <a:t>mplicit structur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t can be extracted from the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P</a:t>
            </a:r>
            <a:r>
              <a:rPr b="0" lang="it-IT" sz="2800" spc="-1" strike="noStrike">
                <a:solidFill>
                  <a:srgbClr val="0066ff"/>
                </a:solidFill>
                <a:latin typeface="Tahoma"/>
              </a:rPr>
              <a:t>artial struc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me data may be unstructured at al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ry large schema, rapidly evolv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Graph-based Data Mod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1067040" cy="4572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 Temporal Graphical Model for Semi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Representing in a uniform way semistructured information by considering also their time dimens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Valid Tim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sing a graph-based approach to represen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mistructured temporal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nstraints related to the temporal dimens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Formal defin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Formally, a 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TGM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graph is a rooted labeled graph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&lt;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N,E,r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gt; with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N is a (finite) set of nodes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 is a set of labeled edg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 </a:t>
            </a:r>
            <a:r>
              <a:rPr b="1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N is the unique root of the grap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ach node label is composed by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lt;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Nname_i, Ntype_i, Ncontent_i, Ntime_i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gt;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ach edge label is composed by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lt;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(n_h,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n_k), label_j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gt;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, with label_j = 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lt;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Ename_j,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time_j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Managing Valid Time with TG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1" name="MTGM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time interval of an edge between a complex node and a simple nod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must be related to the time interval of the complex nod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4" name="conVT2" descr=""/>
          <p:cNvPicPr/>
          <p:nvPr/>
        </p:nvPicPr>
        <p:blipFill>
          <a:blip r:embed="rId2"/>
          <a:stretch/>
        </p:blipFill>
        <p:spPr>
          <a:xfrm>
            <a:off x="1143000" y="2666880"/>
            <a:ext cx="7257960" cy="3017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599840" y="579132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</a:t>
            </a:r>
            <a:r>
              <a:rPr b="1" lang="en-GB" sz="2400" spc="-1" strike="noStrike">
                <a:solidFill>
                  <a:srgbClr val="40458c"/>
                </a:solidFill>
                <a:latin typeface="Courier New"/>
              </a:rPr>
              <a:t>_js &gt;=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_hs</a:t>
            </a:r>
            <a:r>
              <a:rPr b="1" lang="en-GB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_je</a:t>
            </a:r>
            <a:r>
              <a:rPr b="1" lang="en-GB" sz="2400" spc="-1" strike="noStrike">
                <a:solidFill>
                  <a:srgbClr val="40458c"/>
                </a:solidFill>
                <a:latin typeface="Courier New"/>
              </a:rPr>
              <a:t> &lt;=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_h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16:47Z</dcterms:created>
  <dc:creator>Barbara Oliboni</dc:creator>
  <dc:description/>
  <dc:language>en-US</dc:language>
  <cp:lastModifiedBy>Barbara Oliboni</cp:lastModifiedBy>
  <dcterms:modified xsi:type="dcterms:W3CDTF">2003-06-12T15:03:39Z</dcterms:modified>
  <cp:revision>35</cp:revision>
  <dc:subject/>
  <dc:title>Presentazione di PowerPoint</dc:title>
</cp:coreProperties>
</file>