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BBA8-E754-4A43-A032-5F94B80FB5B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[RESPIRA]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e informazioni multimediali possono essere definite attraverso la composizione d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VISU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TESTU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oggetti multimediali possono essere classificati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DINAMIC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 i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STATIC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 seconda che presentino o meno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un’evoluzione nel tempo intrinsec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d esempio, 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testi e le immagin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ono oggetti multimediali di tipo STATICO mentre 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video e gli audio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ono oggetti multimediali DINAMI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DOCUMENTO MULTIMEDIAL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detto anche presentazione, include la composizione di una varietà di oggetti multimedial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opportunamente coordinati nello spazio e nel tempo di visualizzazio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[RESPIR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 corso di questa presentazione verranno discusse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incipali caratteristiche dei dati semistrutturati e multimedial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rranno introdotte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incipali noz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nell’ambito delle basi di dati tempor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rrà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nalizzato il modello MTGM attraverso un esempio applic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d, infine, trarremo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pportune conclus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 indicheremo 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ossibili sviluppi futur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modello MTGM proposto è un’estensione del modello TGM per il trattamento dell’informazione semistrutturata e temporale presente in letteratu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principali caratteristiche del modello MTGM sono le seguen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APPRESENTAZIONE DI PRESENTAZIONI MULTIMEDIALI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ugli oggetti memorizzati nella base di dati MTGM ste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LI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NTEGRA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i dati appartenenti alla base di dati con quelli inerenti le presentazioni multimed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ia le modalità di rappresentazione degli oggetti e relazioni della base di dati e degli oggetti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lazioni multimediali sono le ste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LI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SSOCIA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l tempo di validità anche agli oggetti ed alle relazioni multimed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modello MTGM si basa su grafi etichettati in cui si distinguono due tipi di nod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ODI COMPLESS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appresentano gli oggetti appartenenti alla base d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ODI ATOMIC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appresentano le proprietà ossia gli attributi associati agli oggetti comples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n particolare, u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O MULTIMEDIAL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arà rappresentato attraverso un nodo comples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archi del grafo si distinguono i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RCHI RELAZIONALI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nsentono di descrivere le relazioni che intercorrono tra gli oggetti memorizzati nella base d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RCHI MULTIMEDIALI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descrivono le relazioni di sincronizzazione che sussistono tra gli oggetti multimediali che costituiscono una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resenta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n generale, tra gli oggetti multimediali che compongono una presentazione multimediale saranno defini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delle </a:t>
            </a:r>
            <a:r>
              <a:rPr b="1" lang="it-IT" sz="900" spc="-1" strike="noStrike">
                <a:solidFill>
                  <a:srgbClr val="000000"/>
                </a:solidFill>
                <a:latin typeface="Times New Roman"/>
              </a:rPr>
              <a:t>relazioni di sincronizzazion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che dovranno essere </a:t>
            </a:r>
            <a:r>
              <a:rPr b="0" lang="it-IT" sz="900" spc="-1" strike="noStrike" u="sng">
                <a:solidFill>
                  <a:srgbClr val="000000"/>
                </a:solidFill>
                <a:uFillTx/>
                <a:latin typeface="Times New Roman"/>
              </a:rPr>
              <a:t>soddisfatte al momento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della </a:t>
            </a:r>
            <a:r>
              <a:rPr b="0" lang="it-IT" sz="900" spc="-1" strike="noStrike" u="sng">
                <a:solidFill>
                  <a:srgbClr val="000000"/>
                </a:solidFill>
                <a:uFillTx/>
                <a:latin typeface="Times New Roman"/>
              </a:rPr>
              <a:t>riproduzion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della presentazione stess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SPAZIALI permettono di definire le coordinate spaziali di visualizzazione di un oggetto e, ovviamente, non sono significativi per gli oggetti aud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TEMPORALI consentono di definire le coordinate temporali di visualizzazione degli oggetti multimediali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 seconda del tipo di condizione imposta dal vincolo si potranno avere 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VINCOLI QUANTITATIV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VINCOLI QUALITATIV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quantitativi specificano delle relazioni tra gli oggetti multimediali fissandone delle distanze in tempo o spaz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Nel modello MTGM tali vincoli saranno rappresentati attraverso nodi atomici che descrivono, nel caso temporale, le coordinate di inizio e fine della riproduzione dell’ogg. Multimediale cui si riferiscono mentre, nel caso spaziale, le coordinate del punto in cui dovrà essere visualizzato l’ogget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qualitativi specificano relazioni senza fissarne distanze precise. In MTGM tali relazioni saranno rappresentate attraverso le etichette degli archi multimediali. Nel caso temporale descriveranno le relazioni temporali definite da ALLLE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’ stata definita un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metodologia di tradu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i una base di dati MTGM in XML, il noto linguaggio di marcatura che permette di caratterizzare il contenuto informativo dei documenti semistruttur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presentazioni multimediali memorizzate nella base di dati potranno essere tradotte i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MIL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un nuov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inguaggio per la definizione di presentazioni multimediali basato sulla sintassi di XM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MIL consente la descrizione di presentazioni multimediali complesse sia dal punto di vista della struttura che dei vincoli temporali, senza richiedere particolari abilità di scrittura del cod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esentazion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definite attraverso il linguaggi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MIL possono essere riprodot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attraverso molti software multimediali tra i  qua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alOnePlayer, che è stato da noi utilizz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a prima parte della visualizzazione della presentazione assumerà questa for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a durata della visualizzazione dell’anamnesi potrà essere ulteriormente dettagliata attraverso la specifica dei valori desiderati per i nodi atomici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ORD_INIZIO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ORD_F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seconda parte della visualizzaizone assumerà questa forma. Poiché i video di una coronarografia sono molto brevi, sarà possibile richiedere una ripetizione dell’esecuzione del video specificando il numero di ripetizioni richieste come valore del nodo atomic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associato all’oggetto complesso CORONAROGRAF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modello MTGM presentato ha permesso d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modellare l’informazione semistrutturata, temporale, multimed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integrare le presentazioni multimediali con le informazioni temporali e semistruttu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estendere il tempo di validità anche all’informazione multimed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sviluppi futuri del lavoro riguarderanno la definizione di un linguaggio  d’interrogazione che consenta il trattamento dell’informazione multimediale e temporale. In tal modo potranno essere definite presentazioni multimediali sulla base dei risultati di interrogazioni precedentemente formul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0CF-D17F-4261-A017-8DF7FB4B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B39-C0EB-48E2-8DC5-B3CE6890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4DE-6C9C-4A78-B597-A0C0F50C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A57-98EB-42A4-88B3-034802D7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A181-07E7-4CCA-83C9-15DC4F92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B217-EAF6-49A1-ADCB-CD82C134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1A01-3023-44E0-8FC9-9DBCF661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C9C2-A8CC-49B7-B26D-45382922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FB82-9918-4D76-B8AD-54C07FE6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9C52-A2A3-4CD3-91D1-1DA53C02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1A18-9EB8-4D68-90A8-69B689B9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3C5-D193-4E48-A557-7EB8D925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E454-5257-4853-9D2F-2E29ABC7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B6D4-39AC-4E92-A9CC-F8B30C56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8B2E-AC25-4A2C-8CF1-2DECD900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3D82-E778-4C1F-819D-D2D80E95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2A53-F06C-4BA7-96F2-F39A7DC8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660-F0C0-4BEF-AC1D-DA17C75B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4800-1744-44BD-A194-782949D3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4C8-EB66-45C1-B005-F3862540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D6C-957D-4F4E-A24F-41D9D51F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855-8715-40D0-82E2-278508AC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87F-CBAF-4906-BAFF-EB3C7541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419-71B1-4ACD-8912-4E3A2688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A065-50DD-4C66-9D7A-CA1FF26BF2E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EFF5-A80C-488E-B883-5650172C1D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odeling multimedia and temporal aspects of semistructured clinical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523880" y="4190760"/>
            <a:ext cx="65534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.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ombi, B. Oliboni, R. Rossa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valid time of each simple node is related to the valid tim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all its ingoing edges.</a:t>
            </a:r>
            <a:r>
              <a:rPr b="0" lang="it-IT" sz="32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8" name="conTT2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6781680" cy="361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77960" y="6095880"/>
            <a:ext cx="2954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k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in(t_ji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ke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ax(t_jie)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value of a property of a complex object is unique at each ti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2" name="conVT4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7086600" cy="3423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348200" y="5943600"/>
            <a:ext cx="3728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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(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i=0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,…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n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)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[t_jis,t_jie]=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 relation between two complex objects is unique at each ti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6" name="conVT5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7258320" cy="3006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271880" y="6019920"/>
            <a:ext cx="3728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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(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i=0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,…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n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)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[t_jis,t_jie]=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tional Constraint for Valid Time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 relation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s_descendan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between two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not be established before that both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odes are valid in the considered domain, but it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 survive the end of one (or both) of the connected no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0" name="conVT1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7010640" cy="2895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20760" y="61722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 = max(t_hs,t_ks)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tional Constraint for Valid Time (6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 relation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organizes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between a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 an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Conferenc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 cannot be established before that th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ode is valid in the considered domain, and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not survive the end the of the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4" name="conVT1c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7247160" cy="2994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678320" y="615636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&gt;=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t_h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&lt;=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t_h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General Optional Constraint for Valid Time (7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lations between complex nodes can be valid exactly only in the intersecti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the time interval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the nod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quenced semantic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).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8" name="conVT1b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7247160" cy="2994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068480" y="5867280"/>
            <a:ext cx="353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ax(t_hs,t_k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in(t_he,t_k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99768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media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ultimedia data are the composition of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Visual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Audio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Textual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multimedia presentation</a:t>
            </a: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s the composition of a set of multimedia objects which have to satisfy spatio-temporal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ynchronization Relationsh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ynchronization relationships describe the constraints among the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s must satisfy these constraints at presentation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patio - Temporal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Qualitative - Quantitative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Qualitative temporal constraint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Based on Allen’s temporal rel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Before B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Meet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Overlap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774120" y="2286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20040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2743200"/>
            <a:ext cx="121932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2743200"/>
            <a:ext cx="1828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4880" y="2286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0" y="32004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3962520"/>
            <a:ext cx="1219320" cy="30456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962520"/>
            <a:ext cx="182880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4880" y="35053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16920" y="51055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441972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04840" y="44956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181480"/>
            <a:ext cx="152388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638680"/>
            <a:ext cx="1828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60958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4840" y="61722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64832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45520" y="35053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tructured and unstructured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mistructured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 Temporal Graphical Model for Semistructured Data (TG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ultimedi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Multimedia Temporal Graphical Model (MTG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n exam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clusions and Future Wor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Qualitative temporal constraint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During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Start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Finishe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Equal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1523880"/>
            <a:ext cx="152424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198108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24382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8520" y="23623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8320" y="2743200"/>
            <a:ext cx="152388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8320" y="320040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7080" y="365760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28520" y="35053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77120" y="3809880"/>
            <a:ext cx="152388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426708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7080" y="464832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8520" y="45720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181480"/>
            <a:ext cx="152424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0080" y="5715000"/>
            <a:ext cx="152424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60958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8520" y="60199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M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ltimedia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T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emporal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raphic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l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M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resenting in a uniform way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multimedia present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based on multimedia objects stored in a semistructured, temporal and multimedia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ing a graph-based approach to repres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mistructured tempora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aints related to the temporal dimen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multimedia temporal information and presentation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constraints related to the synchronization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imeline of a multimedia pres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62120" y="2361240"/>
            <a:ext cx="740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rot="10800000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1523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 the objects composing a multimedia presentation are aligned on a temporal ax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7" name="TIMELINE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296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media object can be inserted several times in the same presentati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object </a:t>
            </a: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ppears in the first and in the last part of the multimedia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different spatial and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temporal coordina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can be requir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presentation identifi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 order to recognize the different instances of the same media object in a given presentation, we introduce the concept of </a:t>
            </a: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mp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first instance of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is related to the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mpi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with valu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the second to the mpi with valu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ultimedia constraints represen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n the first part of the presentation the objects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must be played simultaneous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3505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50532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ff"/>
                </a:solidFill>
                <a:latin typeface="Tahoma"/>
              </a:rPr>
              <a:t>Multimedia edg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4267080"/>
            <a:ext cx="76964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he label of a multimedia edge report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mpi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f the considered media object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description of their temporal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constrai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first part the objects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must be playe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imultaneously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0" name="MM_EDGE1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391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second part of the presentation, the object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is played on the end of the visualization of 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3" name="MM_EDGE2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62485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4191120" y="5943600"/>
            <a:ext cx="685800" cy="485640"/>
          </a:xfrm>
          <a:prstGeom prst="rightArrow">
            <a:avLst>
              <a:gd name="adj1" fmla="val 50000"/>
              <a:gd name="adj2" fmla="val 35304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7" name="MM_EDGE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77040" cy="4952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876920" y="5638680"/>
            <a:ext cx="685800" cy="486000"/>
          </a:xfrm>
          <a:prstGeom prst="rightArrow">
            <a:avLst>
              <a:gd name="adj1" fmla="val 50000"/>
              <a:gd name="adj2" fmla="val 35278"/>
            </a:avLst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15200" y="5486400"/>
            <a:ext cx="33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Vide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r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hown simultaneous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epresenting information related to the visualization of a multimedia ob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en-GB" sz="3200" spc="-1" strike="noStrike">
                <a:solidFill>
                  <a:srgbClr val="0066ff"/>
                </a:solidFill>
                <a:latin typeface="Tahoma"/>
              </a:rPr>
              <a:t>Setting No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tting nodes can be related only to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atomic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stream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nodes composing a multimedia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label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between atomic (stream) nodes and the setting nodes is a sequence of </a:t>
            </a: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mpi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281952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tructured and 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n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Traditionally, data stored in electronic form was classified int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85840" indent="-2858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Structured dat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: rigid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xample: databa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5840" indent="-2858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Unstructured dat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: do not present an a priori-known internal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xample: textual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s played into different pla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s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Nam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nd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Description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re played together for 1 minu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video object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s shown 4 tim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6" name="SETTING1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6629400" cy="2676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914400" y="160020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first instance of Name,  the spatial coordinates ar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(1,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second instance of Name, the spatial coordinates ar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(20,20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9" name="SETTING2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6105600" cy="35337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14400" y="1523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re shown simultaneously for 1 minu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(xa12.mpg) is shown 4 ti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3" name="SETTING3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55342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complex node </a:t>
            </a:r>
            <a:r>
              <a:rPr b="1" lang="en-GB" sz="2800" spc="-1" strike="noStrike">
                <a:solidFill>
                  <a:srgbClr val="0066ff"/>
                </a:solidFill>
                <a:latin typeface="Tahoma"/>
              </a:rPr>
              <a:t>Present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represents the starting point of the pres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has an atomic nod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Pre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presenting its unique name w.r.t. MTGM databa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is connected by means of an edge to the first media object of the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valid ti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of the Presentation node represent the time interval in which the presentation has been visualiz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he complex node Pres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7" name="Presentation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82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TGM databa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MTGMcompleto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086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XML (eXtensible Markup Languag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XML [1998] is a general markup language to represent any documental information, i.e. any kind of semistructured infor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format to make information self-describing: tags describe the data cont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can be associated to a DTD, which defines the syntactic structure of the document (schem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XML documents can be easily seen as trees or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graph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2362320"/>
            <a:ext cx="221004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243756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15000" y="4038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72120" y="32760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HasPropert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962520"/>
            <a:ext cx="1523880" cy="53316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Name id=“obj2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5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6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5715000" y="4647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3568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Patient_Symptom idref=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5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6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Patient_Symptom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457200"/>
            <a:ext cx="236232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2057400"/>
            <a:ext cx="236232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53280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2133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Symptom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3, t4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914400"/>
            <a:ext cx="0" cy="11430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0000" y="12186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Patient_Symptom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3611880"/>
            <a:ext cx="381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Symptom   id=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3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4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Symptom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emistructured Data: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ta are semistructured when,  although some structure is present, it is not so strict, regular, or complete as required by traditional database management syste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at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tegrated from multiple, heterogeneous data sour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ta on the World Wide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XM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962520"/>
            <a:ext cx="762120" cy="76176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19920" y="914400"/>
            <a:ext cx="231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2209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15200" y="2666880"/>
            <a:ext cx="457200" cy="12956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406280" y="30474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mpi_valu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2133720"/>
            <a:ext cx="1523880" cy="5331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913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_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Name id=“obj1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x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pi_valu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x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pi_valu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/Na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5863680" y="4800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3962520"/>
            <a:ext cx="761760" cy="76176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674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_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172200" y="2666880"/>
            <a:ext cx="533520" cy="12956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94920" y="30474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mpi_valu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39840" y="4800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9360" y="213372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1219320"/>
            <a:ext cx="2133720" cy="5331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43600" y="3657600"/>
            <a:ext cx="121932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37335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129456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66120" y="213372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[t3, t4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43520" y="41911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53400" y="2576520"/>
            <a:ext cx="1774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HasPropert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1320" y="1752480"/>
            <a:ext cx="533160" cy="1905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705720" y="1752480"/>
            <a:ext cx="457200" cy="1905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152388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 id= 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6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6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idref=“obj2”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NPres&gt; P1 &lt;/NPres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mpi&gt; 1 &lt;/mpi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533520"/>
            <a:ext cx="2133720" cy="6094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5880" y="2666880"/>
            <a:ext cx="2438640" cy="609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5840" y="6094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&lt;Patient, [t1, t2]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34680" y="281952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&lt;Symptom, [t3, t4]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924680" y="1143000"/>
            <a:ext cx="0" cy="1523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22840" y="247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46720" y="2057400"/>
            <a:ext cx="32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it-IT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T_Equals, 2, [t5, t6]</a:t>
            </a:r>
            <a:r>
              <a:rPr b="0" lang="it-IT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4343400"/>
            <a:ext cx="121896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86600" y="43430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Descrip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5800" y="365760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2, [t5, t6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67560" y="48769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Chest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discomfor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3276720"/>
            <a:ext cx="0" cy="1066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….. 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Name id= “obj2”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4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4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idref=“obj2”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NPres&gt; P1 &lt;/NPres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&gt; 1 &lt;/mpi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idref=“obj3”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NPres&gt;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 P1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NPres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</a:t>
            </a:r>
            <a:r>
              <a:rPr b="0" lang="en-GB" sz="1400" spc="-1" strike="noStrike">
                <a:solidFill>
                  <a:srgbClr val="ff6600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T_Synch&gt; 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T_Equal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T_Synch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1143000"/>
            <a:ext cx="121932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12189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43320" y="16765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028840" y="762120"/>
            <a:ext cx="106668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18400" y="45720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[t5, t6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MIL (Synchronized Multimedia Integration Languag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MIL is a markup language (like HTML) and was created specifically to solve the problem of coordinating the display of a variety of media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osition media elements whenever you want on the scre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ynchronize those elem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isplay media following user-preferences, language, bit-rate, etc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6997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MIL c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mil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hea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layou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oot-layou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heigh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50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width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700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background-colo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#ffffc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……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……… 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ideo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……… 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layou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hea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body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eq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ame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scription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……….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_symptom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ame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video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xa12.mpg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ideo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pea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eq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body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mil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Visualization of the presentation (1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21" name="SLIDE1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78168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Visualization of the presentation (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23" name="slide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15200" cy="47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Future Work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Query Language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mporal query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ultimedia query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Data structure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mporal semistructured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ultimedia Temporal semistructured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haracteristics of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rregular structu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complete information, different types for representing the same kind of inform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mplicit structu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t can be extracted from the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P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artial stru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me data may be unstructured at al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ry large schema, rapidly evolv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Graph-based Data Mod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 Temporal Graphical Model for 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resenting in a uniform way semistructured information by considering also their time dimen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Valid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ing a graph-based approach to repres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mistructured tempora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aints related to the temporal dimen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Formal 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Formally, a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TGM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graph is a rooted labeled graph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&lt;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N,E,r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 with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 is a (finite) set of nodes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 is a set of labeled edg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N is the unique root of the grap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ach node label is composed by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name_i, Ntype_i, Ncontent_i, Ntime_i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ach edge label is composed by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(n_h,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_k), label_j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, with label_j =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Ename_j,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time_j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Managing Valid Time with TG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MTGM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time interval of an edge between a complex node and a simple nod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ust be related to the time interval of the complex nod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conVT2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7257960" cy="3017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99840" y="579132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_js &gt;=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hs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 &lt;=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h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16:47Z</dcterms:created>
  <dc:creator>Barbara Oliboni</dc:creator>
  <dc:description/>
  <dc:language>en-US</dc:language>
  <cp:lastModifiedBy>Barbara Oliboni</cp:lastModifiedBy>
  <dcterms:modified xsi:type="dcterms:W3CDTF">2003-06-12T15:03:39Z</dcterms:modified>
  <cp:revision>35</cp:revision>
  <dc:subject/>
  <dc:title>Presentazione di PowerPoint</dc:title>
</cp:coreProperties>
</file>