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01B6-C36E-4610-96E6-3670D7091D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e informazioni multimediali possono essere definite attraverso la composizione 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VIS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TESTUAL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oggetti multimediali possono essere classificati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DINA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i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I STATIC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 seconda che presentino o meno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un’evoluzione nel tempo intrinseca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d esempio,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testi e le immagin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 tipo STATICO mentre 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video e gli audio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ono oggetti multimediali DINAMI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DOCUMEN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, detto anche presentazione, include la composizione di una varietà di oggetti multimediali 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Times New Roman"/>
              </a:rPr>
              <a:t>opportunamente coordinati nello spazio e nel tempo di visualizzazio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[RESPIRA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corso di questa presentazione verranno discuss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caratteristiche dei dati semistrutturati e multimedial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anno introdotte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incipali no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nell’ambito delle basi di dati tempor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rrà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nalizzato il modello MTGM attraverso un esempio applic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d, infine, trarremo 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portune conclus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indicheremo i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ossibili sviluppi futur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modello MTGM proposto è un’estensione del modello TGM per il trattamento dell’informazione semistrutturata e temporale presente in letteratu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incipali caratteristiche del modello MTGM sono le seguen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APPRESENTAZIONE DI PRESENTAZIONI MULTIMEDIALI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ugli oggetti memorizzati nella base di dati MTGM ste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NTEGR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i dati appartenenti alla base di dati con quelli inerenti le present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ia le modalità di rappresentazione degli oggetti e relazioni della base di dati e degli oggetti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lazioni multimediali sono le ste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LI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SSOCIA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el tempo di validità anche agli oggetti ed alle relazioni multimedi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si basa su grafi etichettati in cui si distinguono due tipi di nod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COMPLESS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gli oggetti appartenenti a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NODI ATOMICI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rappresentano le proprietà ossia gli attributi associati agli oggetti comples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n particolare, un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OGGETTO MULTIMEDIALE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arà rappresentato attraverso un nodo comples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archi del grafo si distinguono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RELAZION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consentono di descrivere le relazioni che intercorrono tra gli oggetti memorizzati nella base di da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ARCHI MULTIMEDIALI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descrivono le relazioni di sincronizzazione che sussistono tra gli oggetti multimediali che costituiscono una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presentazi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n generale, tra gli oggetti multimediali che compongono una presentazione multimediale saranno definit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delle </a:t>
            </a:r>
            <a:r>
              <a:rPr b="1" lang="it-IT" sz="900" spc="-1" strike="noStrike">
                <a:solidFill>
                  <a:srgbClr val="000000"/>
                </a:solidFill>
                <a:latin typeface="Times New Roman"/>
              </a:rPr>
              <a:t>relazioni di sincronizza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che dovranno essere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soddisfatte al momento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0" lang="it-IT" sz="900" spc="-1" strike="noStrike" u="sng">
                <a:solidFill>
                  <a:srgbClr val="000000"/>
                </a:solidFill>
                <a:uFillTx/>
                <a:latin typeface="Times New Roman"/>
              </a:rPr>
              <a:t>riproduzione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 della presentazione stess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SPAZIALI permettono di definire le coordinate spaziali di visualizzazione di un oggetto e, ovviamente, non sono significativi per gli oggetti aud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TEMPORALI consentono di definire le coordinate temporali di visualizzazione degli oggetti multimediali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 seconda del tipo di condizione imposta dal vincolo si potranno avere 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NT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VINCOLI QUALITAT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ntitativi specificano delle relazioni tra gli oggetti multimediali fissandone delle distanze in tempo o spazi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Nel modello MTGM tali vincoli saranno rappresentati attraverso nodi atomici che descrivono, nel caso temporale, le coordinate di inizio e fine della riproduzione dell’ogg. Multimediale cui si riferiscono mentre, nel caso spaziale, le coordinate del punto in cui dovrà essere visualizzato l’oggett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 vincoli qualitativi specificano relazioni senza fissarne distanze precise. In MTGM tali relazioni saranno rappresentate attraverso le etichette degli archi multimediali. Nel caso temporale descriveranno le relazioni temporali definite da ALLLE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’ stata definita un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metodologia di traduzion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una base di dati MTGM in XML, il noto linguaggio di marcatura che permette di caratterizzare il contenuto informativo dei documenti semistruttur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presentazioni multimediali memorizzate nella base di dati potranno essere tradotte in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un nuov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inguaggio per la definizione di presentazioni multimediali basato sulla sintassi di XM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IL consente la descrizione di presentazioni multimediali complesse sia dal punto di vista della struttura che dei vincoli temporali, senza richiedere particolari abilità di scrittura del cod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resentazio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definite attraverso il linguaggi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MIL possono essere riprodo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ttraverso molti software multimediali tra i  qu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alOnePlayer, che è stato da noi utilizz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prima parte della visualizzazione della presentazione assumerà questa for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La durata della visualizzazione dell’anamnesi potrà essere ulteriormente dettagliata attraverso la specifica dei valori desiderati per i nodi atomici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INIZIO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COORD_FI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 seconda parte della visualizzaizone assumerà questa forma. Poiché i video di una coronarografia sono molto brevi, sarà possibile richiedere una ripetizione dell’esecuzione del video specificando il numero di ripetizioni richieste come valore del nodo atomic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ssociato all’oggetto complesso CORONAROGRAF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l modello MTGM presentato ha permesso d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modellare l’informazione semistrutturata, temporale,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integrare le presentazioni multimediali con le informazioni temporali e semistruttu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- estendere il tempo di validità anche all’informazione multimedi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Gli sviluppi futuri del lavoro riguarderanno la definizione di un linguaggio  d’interrogazione che consenta il trattamento dell’informazione multimediale e temporale. In tal modo potranno essere definite presentazioni multimediali sulla base dei risultati di interrogazioni precedentemente formula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386-096F-405E-A63C-FCD49B96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4F5-868F-4B37-9166-9EA2733B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A9E-CB8A-4580-8E22-41FEDEDE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9C3-6096-49AF-9A53-F31EA1F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8340-84C8-43DE-8088-2D1E6251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A8B7-0932-42E7-AA48-E443FE9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AA9-C9F6-42F0-921E-6D8F1FC7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0B28-66B9-4E1A-8AF8-1A46929B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0C75-0F9F-42AF-96CF-0F92D1B3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0C62-6DE7-42A7-B9BD-2EFC1BC3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3499-4DE4-4F67-A532-01163192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A7D-4460-4312-9237-CD52E57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914-19E2-434E-833F-DE3A546D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FA4B-36DF-4DE4-8276-B4A8C707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1358-227A-4EE1-A508-6C6E8CE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2026-DCA6-489C-B7D6-85091E03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B141-1C19-4CE7-A724-0A6E19EF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606E-8BD2-4D63-B4B3-3321B6AC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C65-9B0F-4053-BC30-159B533D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E8D9-339B-4BE6-93DF-D9661368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010-4D8A-4580-806D-0CC1FE37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21C-7C9A-4CC9-8D32-957E1829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1F7-6AD3-4AFD-B77E-DA1BAF75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908-8498-4A91-A90C-286CD890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17E2-41AF-42F7-9A7D-91EABD6A50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8643-F126-4329-910F-F9AF011979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odeling multimedia and temporal aspects of semistructured clinical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3880" y="4190760"/>
            <a:ext cx="65534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.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ombi, B. Oliboni, R. Rossa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valid time of each simple node is related to the valid tim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all its ingoing edges.</a:t>
            </a:r>
            <a:r>
              <a:rPr b="0" lang="it-IT" sz="32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8" name="conTT2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781680" cy="361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77960" y="6095880"/>
            <a:ext cx="2954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k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ji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ke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jie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value of a property of a complex object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conVT4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7086600" cy="3423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48200" y="594360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relation between two complex objects is unique at each ti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6" name="conVT5" descr=""/>
          <p:cNvPicPr/>
          <p:nvPr/>
        </p:nvPicPr>
        <p:blipFill>
          <a:blip r:embed="rId2"/>
          <a:stretch/>
        </p:blipFill>
        <p:spPr>
          <a:xfrm>
            <a:off x="1066680" y="2514600"/>
            <a:ext cx="7258320" cy="3006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271880" y="6019920"/>
            <a:ext cx="372816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(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i=0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,…</a:t>
            </a:r>
            <a:r>
              <a:rPr b="1" lang="it-IT" sz="1800" spc="-1" strike="noStrike" baseline="-25000">
                <a:solidFill>
                  <a:srgbClr val="40458c"/>
                </a:solidFill>
                <a:latin typeface="Courier New"/>
              </a:rPr>
              <a:t>n</a:t>
            </a:r>
            <a:r>
              <a:rPr b="1" lang="en-GB" sz="1800" spc="-1" strike="noStrike" baseline="-25000">
                <a:solidFill>
                  <a:srgbClr val="40458c"/>
                </a:solidFill>
                <a:latin typeface="Courier New"/>
              </a:rPr>
              <a:t>)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[t_jis,t_jie]=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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is_descendan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two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be established before that both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s are valid in the considered domain, but it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 survive the end of one (or both) of the connected no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0" name="conVT1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7010640" cy="2895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20760" y="617220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 = max(t_hs,t_ks)</a:t>
            </a:r>
            <a:r>
              <a:rPr b="0" lang="it-IT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Optional Constraint for Valid Time (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 relation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organizes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between 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an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Conferenc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 cannot be established before that t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node is valid in the considered domain, and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annot survive the end the of the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Pers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4" name="conVT1c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678320" y="61563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g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&lt;=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 t_h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General Optional Constraint for Valid Time (7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h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relations between complex nodes can be valid exactly only in the intersec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time interva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of the nod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quenced semantic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).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8" name="conVT1b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7247160" cy="2994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068480" y="5867280"/>
            <a:ext cx="353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s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ax(t_hs,t_k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=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Courier New"/>
              </a:rPr>
              <a:t>min(t_he,t_ke</a:t>
            </a:r>
            <a:r>
              <a:rPr b="1" lang="en-GB" sz="20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6997680" cy="77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media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Multimedia data are the composition of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Vis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Audio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Textual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s the composition of a set of multimedia objects which have to satisfy spatio-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ynchronization 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ynchronization relationships describe the constraints among the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must satisfy these constraints at presentatio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patio - Temporal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Qualitative - Quantitative constrai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Based on Allen’s temporal rel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Before B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ee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Overlap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774120" y="22860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32004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0" y="2743200"/>
            <a:ext cx="121932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274320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4880" y="2286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0" y="32004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3962520"/>
            <a:ext cx="1219320" cy="30456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962520"/>
            <a:ext cx="1828800" cy="30456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4880" y="350532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16920" y="51055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44197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04840" y="44956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5181480"/>
            <a:ext cx="152388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638680"/>
            <a:ext cx="18288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4840" y="6172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4648320"/>
            <a:ext cx="3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5520" y="350532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tructured and un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emistructured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 Temporal Graphical Model for Semistructured Data (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ltimedia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Multimedia Temporal Graphical Model (MTG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 ex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nclusions and Future 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Qualitative temporal constrai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During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Start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Finishe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 Equals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5238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1981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24382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8520" y="2362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2743200"/>
            <a:ext cx="152388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8320" y="320040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7080" y="365760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8520" y="35053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3809880"/>
            <a:ext cx="152388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4267080"/>
            <a:ext cx="342900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67080" y="464832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8520" y="45720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5181480"/>
            <a:ext cx="152424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0080" y="5715000"/>
            <a:ext cx="1524240" cy="304920"/>
          </a:xfrm>
          <a:prstGeom prst="rect">
            <a:avLst/>
          </a:prstGeom>
          <a:solidFill>
            <a:srgbClr val="ffff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6095880"/>
            <a:ext cx="39625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8520" y="601992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ltimedia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T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emporal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G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raphic</a:t>
            </a: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l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it-IT" sz="4400" spc="-1" strike="noStrike">
                <a:solidFill>
                  <a:srgbClr val="660066"/>
                </a:solidFill>
                <a:latin typeface="Tahoma"/>
              </a:rPr>
              <a:t>M</a:t>
            </a: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multimedia 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based on multimedia objects stored in a semistructured, temporal and multimedia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multimedia temporal information and presentation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constraints related to the synchronization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imeline of a multimedia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62120" y="2361240"/>
            <a:ext cx="7407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1523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ll the objects composing a multimedia presentation are aligned on a temporal ax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7" name="TIMELINE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296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 media object can be inserted several times in the same presentati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ppears in the first and in the last part of the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ifferent spatial 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temporal coordina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can be requ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presentation identif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In order to recognize the different instances of the same media object in a given presentation, we introduce the concept of </a:t>
            </a:r>
            <a:r>
              <a:rPr b="1" i="1" lang="en-GB" sz="2800" spc="-1" strike="noStrike">
                <a:solidFill>
                  <a:srgbClr val="0066ff"/>
                </a:solidFill>
                <a:latin typeface="Tahoma"/>
              </a:rPr>
              <a:t>mp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first instance of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is related to the </a:t>
            </a:r>
            <a:r>
              <a:rPr b="0" i="1" lang="en-GB" sz="2400" spc="-1" strike="noStrike">
                <a:solidFill>
                  <a:srgbClr val="40458c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1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the second to the mpi with valu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Multimedia constraints represen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 the first part of the presentation the objects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must be played simultaneous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35053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5053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ff"/>
                </a:solidFill>
                <a:latin typeface="Tahoma"/>
              </a:rPr>
              <a:t>Multimedia edg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4267080"/>
            <a:ext cx="76964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he label of a multimedia edge report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f the considered media object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description of their temporal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constrai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part the objects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must be playe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imultaneously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0" name="MM_EDGE1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391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part of the presentation, the object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is played on the end of the visualization of 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3" name="MM_EDGE2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2485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Multimedia edg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4191120" y="5943600"/>
            <a:ext cx="685800" cy="485640"/>
          </a:xfrm>
          <a:prstGeom prst="rightArrow">
            <a:avLst>
              <a:gd name="adj1" fmla="val 50000"/>
              <a:gd name="adj2" fmla="val 35304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7" name="MM_EDGE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77040" cy="4952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876920" y="5638680"/>
            <a:ext cx="685800" cy="486000"/>
          </a:xfrm>
          <a:prstGeom prst="rightArrow">
            <a:avLst>
              <a:gd name="adj1" fmla="val 50000"/>
              <a:gd name="adj2" fmla="val 35278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15200" y="5486400"/>
            <a:ext cx="33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Video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hown simultaneous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Representing information related to the visualization of a multimedia 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en-GB" sz="3200" spc="-1" strike="noStrike">
                <a:solidFill>
                  <a:srgbClr val="0066ff"/>
                </a:solidFill>
                <a:latin typeface="Tahoma"/>
              </a:rPr>
              <a:t>Setting 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tting nodes can be related only to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atomic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tream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nodes composing a multimedia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labe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between atomic (stream) nodes and the setting nodes is a sequence of </a:t>
            </a:r>
            <a:r>
              <a:rPr b="0" i="1" lang="en-GB" sz="2400" spc="-1" strike="noStrike">
                <a:solidFill>
                  <a:srgbClr val="0066ff"/>
                </a:solidFill>
                <a:latin typeface="Tahoma"/>
              </a:rPr>
              <a:t>mpi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2819520"/>
            <a:ext cx="762120" cy="485640"/>
          </a:xfrm>
          <a:prstGeom prst="rightArrow">
            <a:avLst>
              <a:gd name="adj1" fmla="val 50000"/>
              <a:gd name="adj2" fmla="val 39233"/>
            </a:avLst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tructured and 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un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Traditionally, data stored in electronic form was classified int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rigid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datab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85840" indent="-2858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Unstructured dat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: do not present an a priori-known internal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xample: textual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6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played into different pla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objects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Name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nd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Description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are played together for 1 minu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video object </a:t>
            </a: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is shown 4 tim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6" name="SETTING1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629400" cy="2676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914400" y="16002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first instance of Name, 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1,1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 the second instance of Name, the spatial coordinates ar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(20,20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9" name="SETTING2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6105600" cy="35337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1440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Nam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Description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are shown simultaneously for 1 minu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tting nodes representation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it-IT" sz="2400" spc="-1" strike="noStrike">
                <a:solidFill>
                  <a:srgbClr val="0066ff"/>
                </a:solidFill>
                <a:latin typeface="Tahoma"/>
              </a:rPr>
              <a:t>StreamFile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(xa12.mpg) is shown 4 ti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3" name="SETTING3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55342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sentation requirements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he complex node </a:t>
            </a:r>
            <a:r>
              <a:rPr b="1" lang="en-GB" sz="2800" spc="-1" strike="noStrike">
                <a:solidFill>
                  <a:srgbClr val="0066ff"/>
                </a:solidFill>
                <a:latin typeface="Tahoma"/>
              </a:rPr>
              <a:t>Presentatio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represents the starting point of the pres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has an atomic nod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NamePre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presenting its unique name w.r.t. MTGM datab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is connected by means of an edge to the first media object of the pres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of the Presentation node represent the time interval in which the presentation has been visualiz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he complex node Present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7" name="Presentation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82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TGM databa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9" name="MTGMcompleto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086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XML (eXtensible Markup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XML [1998] is a general markup language to represent any documental information, i.e. any kind of semistructured infor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ata format to make information self-describing: tags describe the data cont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t can be associated to a DTD, which defines the syntactic structure of the document (schem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ocuments can be easily seen as trees or </a:t>
            </a: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2362320"/>
            <a:ext cx="221004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67280" y="2437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15000" y="4038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72120" y="32760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2200" y="3962520"/>
            <a:ext cx="1523880" cy="53316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 id=“obj2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8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4647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3568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 idref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5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6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572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057400"/>
            <a:ext cx="2362320" cy="457200"/>
          </a:xfrm>
          <a:prstGeom prst="rect">
            <a:avLst/>
          </a:prstGeom>
          <a:noFill/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19920" y="53280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213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3, t4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620120" y="914400"/>
            <a:ext cx="0" cy="11430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10000" y="12186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Patient_Symptom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3611880"/>
            <a:ext cx="381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   id=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3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4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Symptom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Semistructured Data: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are semistructured when,  although some structure is present, it is not so strict, regular, or complete as required by traditional database management syste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grated from multiple, heterogeneous data sour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ta on the World Wide W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XM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962520"/>
            <a:ext cx="76212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19920" y="914400"/>
            <a:ext cx="231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67280" y="22093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2666880"/>
            <a:ext cx="45720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40628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133720"/>
            <a:ext cx="1523880" cy="53316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913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Name id=“obj1”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x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pi_valu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009900"/>
                </a:solidFill>
                <a:latin typeface="Tahoma"/>
              </a:rPr>
              <a:t>mpi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C_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/Nam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586368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3962520"/>
            <a:ext cx="761760" cy="76176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74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C_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6172200" y="2666880"/>
            <a:ext cx="533520" cy="12956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4920" y="30474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mpi_value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39840" y="48006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9360" y="213372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4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1219320"/>
            <a:ext cx="2133720" cy="533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943600" y="36576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37335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6400" y="129456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0066ff"/>
                </a:solidFill>
                <a:latin typeface="Tahoma"/>
              </a:rPr>
              <a:t>Patient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1, t2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66120" y="213372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3, t4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43520" y="41911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53400" y="2576520"/>
            <a:ext cx="1774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HasProperty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f89f7"/>
                </a:solidFill>
                <a:latin typeface="Tahoma"/>
              </a:rPr>
              <a:t>[t5, t6)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1752480"/>
            <a:ext cx="53316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705720" y="1752480"/>
            <a:ext cx="457200" cy="19051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152388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start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t1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start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vt_end&gt;  </a:t>
            </a:r>
            <a:r>
              <a:rPr b="0" lang="it-IT" sz="1600" spc="-1" strike="noStrike">
                <a:solidFill>
                  <a:srgbClr val="6f89f7"/>
                </a:solidFill>
                <a:latin typeface="Tahoma"/>
              </a:rPr>
              <a:t> t2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&lt;/vt_end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ValidInterval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6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6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6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6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XML code (5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533520"/>
            <a:ext cx="2133720" cy="609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5880" y="2666880"/>
            <a:ext cx="2438640" cy="609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5840" y="6094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Patient, [t1, t2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34680" y="281952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&lt;Symptom, [t3, t4]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924680" y="1143000"/>
            <a:ext cx="0" cy="1523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22840" y="247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46720" y="205740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T_Equals, 2, [t5, t6]</a:t>
            </a:r>
            <a:r>
              <a:rPr b="0" lang="it-IT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it-IT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4343400"/>
            <a:ext cx="121896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086600" y="434304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Descript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175800" y="36576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2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67560" y="4876920"/>
            <a:ext cx="13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Chest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discomfor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327672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Patient   id=“obj1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….. 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 id= “obj2”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it-IT" sz="14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Name</a:t>
            </a:r>
            <a:r>
              <a:rPr b="0" lang="it-IT" sz="1400" spc="-1" strike="noStrike">
                <a:solidFill>
                  <a:srgbClr val="ff9933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2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 P1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&gt; 1 &lt;/mpi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idref=“obj3”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NPres&gt;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 P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NPres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en-GB" sz="1400" spc="-1" strike="noStrike">
                <a:solidFill>
                  <a:srgbClr val="ff66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mpi</a:t>
            </a: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_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T_Synch&gt; </a:t>
            </a:r>
            <a:r>
              <a:rPr b="0" lang="it-IT" sz="1400" spc="-1" strike="noStrike">
                <a:solidFill>
                  <a:srgbClr val="ff6600"/>
                </a:solidFill>
                <a:latin typeface="Tahoma"/>
              </a:rPr>
              <a:t>T_Equals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&lt;/T_Synch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……&lt;/</a:t>
            </a:r>
            <a:r>
              <a:rPr b="0" lang="it-IT" sz="1400" spc="-1" strike="noStrike">
                <a:solidFill>
                  <a:srgbClr val="009900"/>
                </a:solidFill>
                <a:latin typeface="Tahoma"/>
              </a:rPr>
              <a:t>ValidTim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660066"/>
                </a:solidFill>
                <a:latin typeface="Tahoma"/>
              </a:rPr>
              <a:t>Mmedge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0066ff"/>
                </a:solidFill>
                <a:latin typeface="Tahoma"/>
              </a:rPr>
              <a:t>/Patient</a:t>
            </a: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4343400" y="1143000"/>
            <a:ext cx="1219320" cy="4572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121896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66ff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243320" y="16765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0066"/>
                </a:solidFill>
                <a:latin typeface="Tahoma"/>
              </a:rPr>
              <a:t>Ed Bawe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028840" y="762120"/>
            <a:ext cx="1066680" cy="3808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18400" y="457200"/>
            <a:ext cx="195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lt;P1, 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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  <a:ea typeface="Times New Roman"/>
              </a:rPr>
              <a:t>1, [t5, t6]</a:t>
            </a:r>
            <a:r>
              <a:rPr b="0" lang="en-US" sz="1800" spc="-1" strike="noStrike">
                <a:solidFill>
                  <a:srgbClr val="ff6600"/>
                </a:solidFill>
                <a:latin typeface="Symbol"/>
                <a:ea typeface="Symbol"/>
              </a:rPr>
              <a:t></a:t>
            </a: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SMIL (Synchronized Multimedia Integration Languag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MIL is a markup language (like HTML) and was created specifically to solve the problem of coordinating the display of a variety of media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osition media elements whenever you want on the sc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ynchronize those ele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isplay media following user-preferences, language, bit-rate, etc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6997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MIL c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oot-layou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heigh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5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width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700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background-colo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#ffffc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“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……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region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……… 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layou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hea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escription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……….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_symptom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2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text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ame.r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1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……..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           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video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“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src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xa12.mpg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gion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ideo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”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 repeat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="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"/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par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eq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body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lt;/</a:t>
            </a:r>
            <a:r>
              <a:rPr b="0" lang="it-IT" sz="1400" spc="-1" strike="noStrike">
                <a:solidFill>
                  <a:srgbClr val="800000"/>
                </a:solidFill>
                <a:latin typeface="Tahoma"/>
              </a:rPr>
              <a:t>smil</a:t>
            </a:r>
            <a:r>
              <a:rPr b="0" lang="it-IT" sz="1400" spc="-1" strike="noStrike">
                <a:solidFill>
                  <a:srgbClr val="0000ff"/>
                </a:solidFill>
                <a:latin typeface="Tahoma"/>
              </a:rPr>
              <a:t>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1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1" name="SLID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7816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Visualization of the presentation (2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23" name="slide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315200" cy="47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Future Work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Query Languag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query langu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66ff"/>
                </a:solidFill>
                <a:latin typeface="Tahoma"/>
              </a:rPr>
              <a:t>Data structure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Multimedia Temporal semistructured databas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Characteristics of</a:t>
            </a:r>
            <a:br>
              <a:rPr sz="4400"/>
            </a:b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rregular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complete information, different types for representing the same kind of inform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I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mplicit structur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t can be extracted from th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Tahoma"/>
              </a:rPr>
              <a:t>P</a:t>
            </a:r>
            <a:r>
              <a:rPr b="0" lang="it-IT" sz="2800" spc="-1" strike="noStrike">
                <a:solidFill>
                  <a:srgbClr val="0066ff"/>
                </a:solidFill>
                <a:latin typeface="Tahoma"/>
              </a:rPr>
              <a:t>artial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me data may be unstructured at al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ery large schema, rapidly evolv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Graph-based Data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A Temporal Graphical Model for Semistructure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Representing in a uniform way semistructured information by considering also their time dimens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Tahoma"/>
              </a:rPr>
              <a:t>Valid Tim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Using a graph-based approach to represent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mistructured temporal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85680" indent="-4370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onstraints related to the temporal dimens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Formal 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Formally, a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TGM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graph is a rooted labeled graph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l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,E,r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with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 is a (finite) set of nodes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 is a set of labeled edg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r </a:t>
            </a:r>
            <a:r>
              <a:rPr b="1" lang="it-IT" sz="20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N is the unique root of the graph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nod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name_i, Ntype_i, Ncontent_i, Ntime_i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ach edge label is composed by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(n_h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n_k), label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gt;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, with label_j = 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&lt;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 Ename_j,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Etime_j</a:t>
            </a:r>
            <a:r>
              <a:rPr b="1" lang="en-GB" sz="2000" spc="-1" strike="noStrike">
                <a:solidFill>
                  <a:srgbClr val="40458c"/>
                </a:solidFill>
                <a:latin typeface="Tahoma"/>
              </a:rPr>
              <a:t> 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Managing Valid Time with TG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1" name="MTGM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Constraint for Valid Time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The time interval of an edge between a complex node and a simple nod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ust be related to the time interval of the complex nod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conVT2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7257960" cy="3017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99840" y="5791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_js &g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s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je</a:t>
            </a:r>
            <a:r>
              <a:rPr b="1" lang="en-GB" sz="2400" spc="-1" strike="noStrike">
                <a:solidFill>
                  <a:srgbClr val="40458c"/>
                </a:solidFill>
                <a:latin typeface="Courier New"/>
              </a:rPr>
              <a:t> &lt;= </a:t>
            </a:r>
            <a:r>
              <a:rPr b="1" lang="it-IT" sz="2400" spc="-1" strike="noStrike">
                <a:solidFill>
                  <a:srgbClr val="40458c"/>
                </a:solidFill>
                <a:latin typeface="Courier New"/>
              </a:rPr>
              <a:t>t_h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16:47Z</dcterms:created>
  <dc:creator>Barbara Oliboni</dc:creator>
  <dc:description/>
  <dc:language>en-US</dc:language>
  <cp:lastModifiedBy>Barbara Oliboni</cp:lastModifiedBy>
  <dcterms:modified xsi:type="dcterms:W3CDTF">2003-06-12T15:03:39Z</dcterms:modified>
  <cp:revision>35</cp:revision>
  <dc:subject/>
  <dc:title>Presentazione di PowerPoint</dc:title>
</cp:coreProperties>
</file>